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explode.wav" ContentType="audio/x-wav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AC28-FAC0-4E71-A8F4-82705A17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3099-2C25-4F90-9E4E-5B9661E1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738D-03CE-4FA9-9EED-54E4F543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6870-B16E-4476-BEF2-349EE942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39E-81E0-43DC-A33C-EF79E39B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F13-1B58-43A4-BF3D-7ED222B4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A2F-D046-4B9A-8DE5-DC2B8E21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791E-64A1-48D8-8573-EE058EFF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477D-DD7C-4874-B773-4174C474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94BD-2A9D-44DC-9623-D0AD6A73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D0CD-C7E9-4B5E-AF38-66A32677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4BC-0974-4A4A-AF9C-58D74C56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C073-142E-408E-8490-9317B0B51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volcano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volcano10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volcano1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volcano12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volcano1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volcano14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volcano15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volcano1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volcano17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volcano18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volcano19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volcano2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volcano20" descr=""/>
          <p:cNvPicPr/>
          <p:nvPr/>
        </p:nvPicPr>
        <p:blipFill>
          <a:blip r:embed="rId1"/>
          <a:stretch/>
        </p:blipFill>
        <p:spPr>
          <a:xfrm>
            <a:off x="76320" y="58680"/>
            <a:ext cx="9067680" cy="679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volcano2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volcano22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volcano2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volcano24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olcano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volcano4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volcano5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volcano6" descr=""/>
          <p:cNvPicPr/>
          <p:nvPr/>
        </p:nvPicPr>
        <p:blipFill>
          <a:blip r:embed="rId1"/>
          <a:stretch/>
        </p:blipFill>
        <p:spPr>
          <a:xfrm>
            <a:off x="-76320" y="-19080"/>
            <a:ext cx="9220320" cy="6912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volcano7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volcano8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olcano9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02:04:42Z</dcterms:created>
  <dc:creator>Nicky Capponi</dc:creator>
  <dc:description/>
  <dc:language>en-US</dc:language>
  <cp:lastModifiedBy>Nicky Capponi</cp:lastModifiedBy>
  <dcterms:modified xsi:type="dcterms:W3CDTF">2005-08-18T09:47:06Z</dcterms:modified>
  <cp:revision>4</cp:revision>
  <dc:subject/>
  <dc:title>PowerPoint Presentation</dc:title>
</cp:coreProperties>
</file>